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15F65-A34F-4137-9F24-535D6FCF27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55D8D-B89A-4B0B-9BDC-D01B5DD9A0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C9CD59B3-C234-42FC-9BF7-5093816B3E66}"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50D3A8E-14E1-4B58-B731-C07CA44D7F1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59F9385-084F-4D2A-AA35-791EE909A49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DE09F06-4798-4684-9675-D75907FC3BA5}" type="datetime">
              <a:rPr b="0" lang="en-US" sz="1200" spc="-1" strike="noStrike">
                <a:solidFill>
                  <a:srgbClr val="000000"/>
                </a:solidFill>
                <a:latin typeface="Times New Roman"/>
                <a:ea typeface="Arial"/>
              </a:rPr>
              <a:t>07/29/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92634F3-9339-4075-9E6F-A8AC1F0BDFF8}" type="datetime3">
              <a:rPr b="0" lang="en-US" sz="1200" spc="-1" strike="noStrike">
                <a:solidFill>
                  <a:srgbClr val="000000"/>
                </a:solidFill>
                <a:latin typeface="Times New Roman"/>
                <a:ea typeface="Arial"/>
              </a:rPr>
              <a:t>July 29,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3F379BB-0898-45DA-AF90-7325FE249BB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E8E6A-2325-4938-821B-811482A91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5A10D-23E5-4E49-B162-CAEFCC9DE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26A7A-DC0C-402D-943A-9ECA7326B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98987-3EB0-4847-89E9-EA10689123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68A4A-C580-41EE-B7BC-9BC18F16E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9385AC-86E0-4A13-A4CC-6EA254C10A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347369-1C97-4B0D-9C3D-00998D48E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2CC45-5A4C-457D-8EF4-7FE84D6A31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35C66-BA55-4D04-99B1-0D013A36F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F47C0-607B-4D62-BCA7-2F746FAA4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288BD-A206-45B8-B586-FA9CDC50A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259CD-7433-4F29-B394-1FEDBAA54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964A4-2EED-4AC6-A7D4-8C89B7FC1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725B1-B2F6-43D5-9B5F-BB43E0F44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FCAC1-F15B-4997-A5C4-1192354A1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03786C-7EA7-467F-AF13-3B54422A6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3C4E1E-86CE-4ADC-A456-8B905D6B2D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DEE11A-8C5C-43FD-8CF2-DF1A00ED5B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28329-B046-4134-8DEE-1ED5B8538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4AC81-6D99-45F7-8636-CF6C520F6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6640C-ACBD-48BC-ADF3-F4F065C8A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5A637-0C2D-40B9-AAD3-62554A4E5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1622B-9714-4E44-B125-1B3726F8E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7C1DE-373A-4B24-AD5F-C522855A2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7CC98-49A8-4AAF-9040-FA013E38A6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73ACD63-43DB-427F-9EE3-B34865F03A4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3649613-E2C2-4077-B398-68215F5F06F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9B2079E-A68F-498E-852C-D85E4937AF3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B609A-69E8-43E0-AD85-F9672C0C29F4}"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4F506E7-5F77-486A-823F-B5F897CEFC4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37ACEAF-1CB9-4928-8B69-2D9AA357CBC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241F507-9A2D-4EDE-BA29-078719336D3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